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B94-AF68-4FE6-BDE4-9B8E6DBA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F862-AFC8-4D28-A9C6-FC938D15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F61-5644-486F-A4F6-3B995086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C78-D6E2-49AA-ACF2-0A0BA86E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D1B7-C36A-4315-B7C0-368FDEBB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149-1D23-45EB-9F79-5D99A949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BB25-3EB6-43CC-9F20-1B425216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2339-33DD-49A9-BF78-A6D2AC12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571-EAEB-4EFB-80A8-61B34E95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65E9-453B-4A23-A4D9-58E8570B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3D54-523F-48B6-B02F-3D093999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774-3D77-4805-AD6A-81DA0C0A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7B06-933D-4365-B8D4-9A32B01CDB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961920" y="1046160"/>
            <a:ext cx="10267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АЦИИ УЧЕБН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9840" y="59436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Валентиновна Худя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АОУ «СОШ №36» г. Пер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95280" y="96840"/>
            <a:ext cx="1171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Библиотеки позволяю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личностно-ориентированный характер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индивидуальную траекторию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мотивацию через наглядное представление учебн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903320" y="7920"/>
            <a:ext cx="67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366840" y="2233440"/>
            <a:ext cx="4089240" cy="2716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5605560" y="2233440"/>
            <a:ext cx="4900680" cy="279720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3"/>
          <p:cNvCxnSpPr/>
          <p:nvPr/>
        </p:nvCxnSpPr>
        <p:spPr>
          <a:xfrm flipH="1">
            <a:off x="2285280" y="667800"/>
            <a:ext cx="1521720" cy="139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Прямая со стрелкой 5"/>
          <p:cNvCxnSpPr/>
          <p:nvPr/>
        </p:nvCxnSpPr>
        <p:spPr>
          <a:xfrm>
            <a:off x="5406840" y="668160"/>
            <a:ext cx="2005560" cy="148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Box 6"/>
          <p:cNvSpPr/>
          <p:nvPr/>
        </p:nvSpPr>
        <p:spPr>
          <a:xfrm>
            <a:off x="420840" y="4983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124680" y="5067360"/>
            <a:ext cx="398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1781280" y="7128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49120" y="752400"/>
            <a:ext cx="6743880" cy="228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697360" y="293364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омашн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Диаграмма 7"/>
          <p:cNvGraphicFramePr/>
          <p:nvPr/>
        </p:nvGraphicFramePr>
        <p:xfrm>
          <a:off x="4471920" y="3530520"/>
          <a:ext cx="5197680" cy="28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1920" y="3530520"/>
                    <a:ext cx="51976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sun9-38.userapi.com/ni3vLrQb86qyyvnJccjtueHPlVmXY0ByjeX6uQ/lGrPYlYOlX4.jpg"/>
          <p:cNvPicPr/>
          <p:nvPr/>
        </p:nvPicPr>
        <p:blipFill>
          <a:blip r:embed="rId2"/>
          <a:stretch/>
        </p:blipFill>
        <p:spPr>
          <a:xfrm>
            <a:off x="771480" y="1521000"/>
            <a:ext cx="2476440" cy="4809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3695760" y="2163600"/>
            <a:ext cx="7729560" cy="416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362400" y="54000"/>
            <a:ext cx="844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ение домашнего задания в личном кабинете уче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V="1">
            <a:off x="7948440" y="4184280"/>
            <a:ext cx="1082160" cy="100368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176040" y="958680"/>
            <a:ext cx="7439040" cy="5745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478320" y="223920"/>
            <a:ext cx="844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ценар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55600" y="166680"/>
            <a:ext cx="126158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атериалов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организации работы учащихс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обучение наглядным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и качеств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7:27:11Z</dcterms:created>
  <dc:creator>худяковы</dc:creator>
  <dc:description/>
  <dc:language>en-US</dc:language>
  <cp:lastModifiedBy>Win</cp:lastModifiedBy>
  <dcterms:modified xsi:type="dcterms:W3CDTF">2020-11-17T03:14:56Z</dcterms:modified>
  <cp:revision>11</cp:revision>
  <dc:subject/>
  <dc:title>Презентация PowerPoint</dc:title>
</cp:coreProperties>
</file>